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889-2E3A-4BCD-A209-A1AA1F2B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8ABE-28BF-4BD6-8828-0E922270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3B4B-F03E-4DFA-A2AA-E55920D6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A08-AAB2-4DAF-B436-BD078DE1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FD34-BB44-4D20-968D-D1BD64FB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C6C1-50BF-49CC-9EC0-73ED6BD2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8C4-455E-41BB-AB1C-2EEF27D8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ACC-8274-48C7-AD4B-ECB80859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3305-6C24-4101-BD8B-CB8DE959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488-B503-4655-B905-6145E1ED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A59-C41D-4773-B211-E956F3C5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6E39-20C8-4FA2-9BE8-11EEB3D2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874B-564C-4846-8DFA-DFF70670C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59640" y="5734080"/>
            <a:ext cx="2195280" cy="87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16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Komárom Város Önkormányzat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ÁROP 1.A.2/A-2008-0077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ÁJÉKOZTATÓ AZ ESÉLYEGYENLŐSÉGI SZEMPONTOK ÉRVÉNYESÍTÉSÉRŐ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6093000"/>
            <a:ext cx="2303280" cy="615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7280" y="6093000"/>
            <a:ext cx="403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A projekt az Európai Unió támogatásával, az Európai Szociális Alap társfinanszírozásával valósul m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5950080"/>
            <a:ext cx="626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20000" y="549360"/>
            <a:ext cx="10508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2852640"/>
            <a:ext cx="8291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élcsoport és esélyegyenlőségi terül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Az esélyegyenlőség célcsoportj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Vele született vagy általuk nem befolyásolható tulajdonsága miatt a társadalomban hátrányba kerülő emberek és csoportja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Nem (sex – gen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Faji hovatartozás, bőrszín, nemzetiség, nemzeti vagy etnikai, vallási kisebbséghez tartozá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Fogyatékoss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Szexuális irányultság, nemi identi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Életkor, családi állapot, társadalmi származás, vagyoni helyzet, világnézeti meggyőződés, politikai vagy más vélemé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sélyegyenlőségi terül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6800" indent="-316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ok a területek melyek hozzájárulhatnak az esélyegyenlőségi célcsoportok hazai helyzetének javulásáho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saládbarát munkahelyi körülmények megteremtése, erősíté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emek (férfiak és nők) közötti esélykülönbségek csökkenté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akadálymentesítés előrehalad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gyatékkal élők életminőségének és munkapiaci esélyeinek jav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omák életminőségének és munkapiaci esélyeinek jav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ás hátrányos helyzetű csoportok munkapiaci és társadalmi esélyeinek javítá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2852280"/>
            <a:ext cx="8291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Irányelvek, jogszabál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4800" indent="-3348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Európai Unió Tanácsa 2000-ben két nagyjelentőségű irányelvet (Faji Irányelv és Foglalkoztatási Irányelv) is elfogadott a diszkrimináció visszaszorítására, melyek hazai jogrendszerbe illesztésének az Unióhoz való csatlakozásig meg kellett történnie. A törvény elfogadásával ezen kívül még hat irányelv – többségükben a nők és a férfiak egyenlő bánásmódban részesítésének követelményét tartalmazó – átültetése történt m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000/43/EK irányelv a személyek közötti, faji vagy etnikai származásra való tekintet nélküli egyenlő bánásmód elvének végrehajtásár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000/78/EK  irányelv a  foglalkoztatási  és  munkahelyi  egyenlő bánásmód általános kereteinek végrehajtásáró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003. évi CXXV. Törvény az egyenlő bánásmódról és az esélyegyenlőség előmozdításáról (Ebktv.)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: önkormányzatokra is kiterjesztett törvény, az 50 munkavállalónál több személyt foglalkoztató költségvetési szervekre vonatkozóan esélyegyenlőségi program kidolgozását, elfogadását írja el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Magyar Köztársaság 2010. évi költségvetését megalapozó egyes törvények módosításáról szóló 2009. évi CIX. Törvény  (Tv.) kiegészítette az Ebktv-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9200" indent="-349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Tv. kötelezővé teszi a helyi önkormányzatok és többcélú kistérségi társulások számára az öt évre szóló helyi esélyegyenlőségi program elfogadás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program hiányában az önkormányzat, többcélú kistérségi társulás egyes pályázati forrásokból nem részesülh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leghátrányosabb helyzetű kistérségekben lévő, valamint 20.000 lakos feletti települések esetében 2010. július 1-től, egyéb települések esetében 2011. január 1-től kell alkalmazni a helyi esélyegyenlőségi progra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120/2010. (IV.16.) Kormány rendelet a helyi esélyegyenlőségi program elkészítésének szempontjairól (Hepr.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2852280"/>
            <a:ext cx="8291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ÁROP szempontok teljesül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91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saládbarát munkahelyi körülmények megteremtése, erősí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914120"/>
            <a:ext cx="8496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A megkülönböztetés tilalma, egyenlő bánásm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esélyegyenlőségi munkatárs, felelős alkalma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esélyegyenlőségi terv, koncepció meglé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az esélyegyenlőségi célcsoportot, vagy annak képviselőjét bevonja a projekt tervezésé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GYES-ről, GYEd-ről, ápolási díjról visszatérők alkalmazása az elmúlt, ill. következő 5 év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Rugalmas munkaidő szervezés, vagy csúsztatható munkakezdés lehetősé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Munkaidő- kedvezmény biztosítása a dolgozók továbbképzéséh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GYES-en, GYED-en lévő munkatársakkal való szervezett kapcsolattar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Megvalósítás során eszközöket alkalmaz a célcsoport érdekeinek figyelembe vételére, védelmére</a:t>
            </a: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950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emek közötti esélykülönbségek csökken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771560"/>
            <a:ext cx="84960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sélyegyenlőségi munkatárs, felelős alk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sélyegyenlőségi terv, koncepció meglé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esélyegyenlőségi célcsoportot, vagy annak képviselőjét bevonja a projekt tervezésé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GYES-ről, GYED-ről, ápolási díjról visszatérők alkalmazása az elmúlt, ill. következő 5 év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GYES-en, GYED-en lévő munkatársakkal való szervezett kapcsolattar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egvalósítás során eszközöket alkalmaz a célcsoport érdekeinek figyelembe vételére, védelmére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915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Minden hátrányos megkülönböztetés sérti az emberi méltóságot, de nem minden emberi méltóságot sértő magatartás jelenti az egyenlő bánásmód sérelmét.”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(Dr. Demeter Jud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379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kadálymentesítés előrehalad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2131560"/>
            <a:ext cx="84960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sélyegyenlőségi munkatárs, felelős alk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zervezet döntéshozói, munkavállalói vagy közönsége számára évente esélyegyenlőségi képzést 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esélyegyenlőségi célcsoportot, vagy annak képviselőjét bevonja a projekt tervezésé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fokommunikációs akadálymentes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21140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ás hátrányos helyzetű csoportok munkapiaci és társadalmi esélyeinek jav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2490480"/>
            <a:ext cx="84960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sélyegyenlőségi munkatárs, felelős alk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sélyegyenlőségi terv, koncepció meglé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zervezet döntéshozói, munkavállalói vagy közönsége számára évente esélyegyenlőségi képzést 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9640" y="270792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KÖSZÖNÖM MEGTISZTELŐ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GYELMÜK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6093000"/>
            <a:ext cx="2303280" cy="615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627280" y="6165720"/>
            <a:ext cx="403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 projekt az Európai Unió támogatásával, az Európai Szociális Alap társfinanszírozásával valósul m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602136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2852280"/>
            <a:ext cx="8291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Fogalm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59640" y="5734080"/>
            <a:ext cx="219528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sélyegyenlőség = Egyenlő bánásmó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915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z  egyenlő  bánásmód  és  az  esélyegyenlőség  fogalmát  gyakran  használják  szinonimaként,  ami  azt sugallja,  hogy  egy  és  ugyanazon  dologról  van  szó.  Az  egyenlő   bánásmód  elve(másként  a  diszkrimináció  tilalma)  és  az  esélyegyenlőségi  politika  ugyanannak  az  elvárásnak  két eltérő  filozófiájú megközelíté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z esélyegyenlőség érvényesítése többet, mást kíván  meg,  mint pusztán a diszkriminációmentes működés  biztosítása.  Az  esélyegyenlőség  alapja  a  diszkrimináció-mentesség.  Ezen  felül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két  terület tudja erősíteni az esélyegyenlősége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. saját szervezetén belü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2. az általa nyújtott szolgáltatás és más tevékenység sorá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sélyegyenlőség = Egyenlő bánásmó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. A szervezeten belül azzal tudja egy szervezet érvényesíteni az esélyegyenlőséget, ha figyel arra, hogy nagyobb esélyt kapjanak ezen célcsoportok a munkavállalásra és az el menetel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2.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zolgáltatás nyújtása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orán arra kell törekedni, hogy a célcsoportok tagj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minél nagyobb számban kapjanak információt szolgáltatásairó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minél nagyobb számban részesüljenek a szolgáltatásaiból és más tevékenységébő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versenyképességét,  helyzetét,  életkörülményeit  érdemben  javítsák  a  szervezetszolgáltatása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A diszkrimin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odern használatban olyan megkülönböztető bánásmód (cselekedet, tevékenység, kijelentés, elmulasztott tett, viselkedés), mely az egyén (személy) vagy a csoport esélyegyenlőségére hat. A hatása lehet negatív vagy pozitív, módszere pedig nyílt vagy burkol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Negatív diszkrimin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átrányos megkülönbözteté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iszkrimináció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vagy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egatív diszkrimináció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ösztönös vagy tudatos kirekesztő, megalázó cselekedet. Indítéka lehet a fölérendeltség megszerzése vagy megtartása a csoporton belül vagy csoportok között. Az egyenlő bánásmód elvével ellentétes eljárás. Általa létrejön az esélyegyenlőtlenség, a gazdasági vagy társadalmi igazságtalanság. Ürügye a személy vagy csoport másiktól eltérő tulajdonságáról (másságáról) szerzett ismer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Pozitív diszkrimin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53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soportra, személyre vonatkozó jogi, adminisztratív vagy egyéb segítséget jelent, melyre a csoport vagy személy valamilyen szempontból a többséghez képest hátrányos helyzete ad okot. Indítéka a domináns egyén vagy csoport együttérzése, megértés illetve a másik fél követelése vagy tiltakozása a gazdasági és társadalmi igazságtalanság ellen. Szándéka a szolidaritás, az embercsoportok közötti gazdasági vagy társadalmi igazságtalanság enyhítése, vagyis az esélyegyenlőség megteremtésre. A pozitív diszkrimináció bizonyos esetben korlátokat állít főleg a domináns és esetleg a hátrányos helyzetben lévőnek, mégis az esélyegyenlőséget vizsgálva igazságosabb. Például ilyen egy alulképviselt csoport tagjainak segítése, részesülése az arányosság elvén (kvótáv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A megkülönböztetés módsz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Nyílt: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mikor valakit az összehasonlítható helyzetben lévő többieknél, nyíltan kedvezőbben vagy kevésbé kedvezően kezeln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Burkolt: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kkor fordul elő, amikor egy látszólag semleges előírás, ismérv vagy gyakorlat kedvezőbb vagy kedvezőtlenebb helyzetbe hoz valak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0:16:45Z</dcterms:created>
  <dc:creator>cmrt</dc:creator>
  <dc:description/>
  <dc:language>en-US</dc:language>
  <cp:lastModifiedBy>Gizella</cp:lastModifiedBy>
  <dcterms:modified xsi:type="dcterms:W3CDTF">2010-08-23T11:29:51Z</dcterms:modified>
  <cp:revision>35</cp:revision>
  <dc:subject/>
  <dc:title>1. dia</dc:title>
</cp:coreProperties>
</file>