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EB63-2A46-499B-83A4-1D8BD4BF6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7CB4-7F46-44A1-B723-432B9DD0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3A20-FA0C-47EA-A471-21DD7F7B8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10CE-02A4-4B74-854D-D93068530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91116-BC40-4640-B912-13AD862E2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7313-21D5-44A3-A7C7-368C5B99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6ACE-C721-447C-BDD5-7B359CA7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B4C1D-4F8B-42BE-A1AF-E76FE614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F8BD-3A44-4BDD-A879-ACCD6870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C5FAD-3DD7-48F9-93B9-154D35F6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EB0B-8D54-40E5-8B95-EF487D7E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E94D-656B-4F1B-AFA7-CE66D753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2D3C-3725-4EBE-B224-21D46ECF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04C08-7446-47D3-9492-BB273C10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9ABE-6F50-4ED5-A649-ED16D039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B5A3-C4C1-49A7-9FAF-CE408FFBC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A8A7-AFED-4079-8847-A74E57397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EE9F-7134-4387-9DA3-DB2692B4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D7FC-792F-41E9-AA9B-2E1466EA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CF18-A9BF-4FCD-84FD-ED8B5067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921A-51EA-424D-987E-8ACD29E0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790D-50E6-42AB-B863-2C754056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B9D2-E1B7-4C0E-97F9-DCEEE2CD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B82E-7A58-4662-9783-C63DF06B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93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0148-1E98-4DBD-8233-1746B5938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2f5e76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cap="rnd"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49C8-9C77-4FD2-BC92-15AE5517C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505764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280" y="2708280"/>
            <a:ext cx="8458200" cy="16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MUNKAHELYI  EGÉSZSÉGVÉDELMI ÉS BIZTONSÁGI IRÁNYÍTÁSI RENDSZE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MEBIR) SZABVÁNY ISMERTET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797960" y="404640"/>
            <a:ext cx="1049040" cy="1511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910880" y="549360"/>
            <a:ext cx="499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márom Város Önkormányzat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ÁROP 1.A.2/A-2008-00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26560" y="981000"/>
            <a:ext cx="81010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Gondoskodni kell az erőforrásokról a rendszer bevezetéséhez és fenntartásához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A vezetőség egy tagjának kinevezé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Feladatai, jogosultsága, felelőssé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rögzíté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Jelentés készítési kötelezettsé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4. BEVEZETÉS ÉS MŰKÖ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459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4.2. Képzés, tudatosság, </a:t>
            </a:r>
            <a:br>
              <a:rPr sz="4000"/>
            </a:br>
            <a:r>
              <a:rPr b="1" lang="en-US" sz="4000" spc="-1" strike="noStrike">
                <a:solidFill>
                  <a:srgbClr val="4d4d4d"/>
                </a:solidFill>
                <a:latin typeface="Times New Roman"/>
              </a:rPr>
              <a:t>          </a:t>
            </a: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felkészültség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Oktatás megtervezésé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Tudatosság kialakítá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Megfelelő felkészültség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hozott intézkedése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5640" y="148428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4. BEVEZETÉS ÉS MŰKÖ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459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4.3. Tanácskozás és kommunikáció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Eljárás bevezetése a MEB információk  munkavállalók és az érdekelt felek felé történő eljuttatására, a munkavállalók bevonása a szabályozások kialakításáb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5640" y="148428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4. BEVEZETÉS ÉS MŰKÖ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459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4.4. Dokumentáció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A MEBIR elemei - politika, célok, szabályozások, feljegyzések - kölcsön-hatásainak, valamint a kapcsolódó dokumentációnak a meghatározása. </a:t>
            </a:r>
            <a:br>
              <a:rPr sz="3600"/>
            </a:b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A dokumentáció tárolható bármilyen alakú</a:t>
            </a:r>
            <a:br>
              <a:rPr sz="3600"/>
            </a:b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  vagy típusú adathordoz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5640" y="148428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4. BEVEZETÉS ÉS MŰKÖ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459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4.5. A dokumentumok és adatok</a:t>
            </a:r>
            <a:br>
              <a:rPr sz="4000"/>
            </a:br>
            <a:r>
              <a:rPr b="1" lang="en-US" sz="4000" spc="-1" strike="noStrike">
                <a:solidFill>
                  <a:srgbClr val="4d4d4d"/>
                </a:solidFill>
                <a:latin typeface="Times New Roman"/>
              </a:rPr>
              <a:t>          </a:t>
            </a: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kezelése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A környezetközpontú  irányítási rendszer számára szükséges dokumentumokat ellenőrzés alatt kell tartan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148428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4. BEVEZETÉS ÉS MŰKÖ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4.6. A működés szabályozá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Azonosítani és szabályozni kell a veszélyekkel kapcsolatos műveleteket, tevékenységeket, összhangban a politikával és a célokkal. Ezeknek ki kell terjednie a munkahelyekre, a folyamatokra, a berendezésekre, gépekre,  a karbantartásra és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munkaszervezés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4. BEVEZETÉS ÉS MŰKÖ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087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4.7. Felkészülés és reagálás</a:t>
            </a:r>
            <a:br>
              <a:rPr sz="4000"/>
            </a:br>
            <a:r>
              <a:rPr b="1" lang="en-US" sz="4000" spc="-1" strike="noStrike">
                <a:solidFill>
                  <a:srgbClr val="4d4d4d"/>
                </a:solidFill>
                <a:latin typeface="Times New Roman"/>
              </a:rPr>
              <a:t>          </a:t>
            </a: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vészhelyzetek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Eljárás kialakítása a lehetséges események és vészhelyzetek meghatározására, felismerésére, a reagálási tevékenységre, valamint a lehetséges egészségkárosodás és sérülés megelőzésére és enyhítésére. Értékelni kell az eseményeket, vészhelyzeteket bekövetkezésük után.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5. 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LENŐRZÉS É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ELYESBÍTÉ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4360" y="1828800"/>
            <a:ext cx="82087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5.1. Figyelemmel kísérés és </a:t>
            </a:r>
            <a:br>
              <a:rPr sz="4000"/>
            </a:br>
            <a:r>
              <a:rPr b="1" lang="hu-HU" sz="4000" spc="-1" strike="noStrike">
                <a:solidFill>
                  <a:srgbClr val="4d4d4d"/>
                </a:solidFill>
                <a:latin typeface="Times New Roman"/>
              </a:rPr>
              <a:t>          </a:t>
            </a:r>
            <a:r>
              <a:rPr b="1" lang="hu-HU" sz="4000" spc="-1" strike="noStrike" u="sng">
                <a:solidFill>
                  <a:srgbClr val="4d4d4d"/>
                </a:solidFill>
                <a:uFillTx/>
                <a:latin typeface="Times New Roman"/>
              </a:rPr>
              <a:t>méré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Eljárás kialakítása a MEB működése eredményességének figyelemmel kísérésére és mérésére, valamint a jogszabályi követelmények betartásár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A szükséges mérőeszközöknek kalib-</a:t>
            </a:r>
            <a:br>
              <a:rPr sz="3600"/>
            </a:b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ráltnak kell lenniü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5. 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LENŐRZÉS É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ELYESBÍTÉ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5.2. Balesetek, események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4d4d4d"/>
                </a:solidFill>
                <a:latin typeface="Times New Roman"/>
              </a:rPr>
              <a:t>          </a:t>
            </a:r>
            <a:r>
              <a:rPr b="1" lang="hu-HU" sz="4000" spc="-1" strike="noStrike" u="sng">
                <a:solidFill>
                  <a:srgbClr val="4d4d4d"/>
                </a:solidFill>
                <a:uFillTx/>
                <a:latin typeface="Times New Roman"/>
              </a:rPr>
              <a:t>nemmegfelelőségek,</a:t>
            </a:r>
            <a:br>
              <a:rPr sz="4000"/>
            </a:br>
            <a:r>
              <a:rPr b="1" lang="hu-HU" sz="4000" spc="-1" strike="noStrike">
                <a:solidFill>
                  <a:srgbClr val="4d4d4d"/>
                </a:solidFill>
                <a:latin typeface="Times New Roman"/>
              </a:rPr>
              <a:t>          </a:t>
            </a:r>
            <a:r>
              <a:rPr b="1" lang="hu-HU" sz="4000" spc="-1" strike="noStrike" u="sng">
                <a:solidFill>
                  <a:srgbClr val="4d4d4d"/>
                </a:solidFill>
                <a:uFillTx/>
                <a:latin typeface="Times New Roman"/>
              </a:rPr>
              <a:t>helyesbítés és megelőzé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Eljárá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7920">
              <a:lnSpc>
                <a:spcPct val="9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a balesetek, események kezelésér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7920">
              <a:lnSpc>
                <a:spcPct val="9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az okok vizsgálatára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7920">
              <a:lnSpc>
                <a:spcPct val="9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a következmények enyhítésér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7920">
              <a:lnSpc>
                <a:spcPct val="9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a helyesbítés és megelőzés kezdemé-</a:t>
            </a:r>
            <a:br>
              <a:rPr sz="3600"/>
            </a:b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     nyezésére, arányban a MEB kockázatt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14130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5. 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LENŐRZÉS É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ELYESBÍTÉ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1760" y="1773360"/>
            <a:ext cx="838188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5.3. Feljegyzése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Feljegyzéseket kell készíteni és ezeket meg kell őrizni, hogy bizonyítékul szolgáljanak a MEBIR  megfelelőségére, eredményes működésére. A feljegyzéseknek igazolni kell a képzést,  az auditokat és az átvizsgálásoka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1. ÁLTALÁNOS KÖVETELMÉNY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A szervezetnek létre kell hoznia, és fenn kell tartania egy környezetközpontú irányítási rendszert, az </a:t>
            </a:r>
            <a:br>
              <a:rPr sz="3600"/>
            </a:b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MSZ 28001:2003 szabvány követelményeinek megfelelő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5. 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LENŐRZÉS É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ELYESBÍTÉ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49636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5.4. Aud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Tervezett, rendszeres és átfogó aud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7560">
              <a:lnSpc>
                <a:spcPct val="9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a rendszer-követelmények teljesülésének értékelésér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7560">
              <a:lnSpc>
                <a:spcPct val="9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a bevezetés, fenntartás ellenőrzésér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7560">
              <a:lnSpc>
                <a:spcPct val="9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az eredményesség értékelésé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A vezetés részére információt kell adni az</a:t>
            </a:r>
            <a:br>
              <a:rPr sz="3600"/>
            </a:b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   audit eredményérő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6. VEZETŐSÉGI ÁTVIZSGÁL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202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Rendszerértékelés a folyamatos javulás érdekében. Figyelembe veszi az auditok, az ellenőrzések, a helyesbítő, megelőző intézkedések, az érdekelt felek visszajelzéseinek tapasztalatait. Vizsgálja a politika megfelelőségét, a célok teljesülését, meghatározza a fejlesztési feladatoka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Az átvizsgálást dokumentálni ke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5640" y="299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KÖSZÖNÖM MEGTISZTELŐ FIGYELMÜKE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2. MEB POLIT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000" y="1988640"/>
            <a:ext cx="84596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Alkalmassá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Megfelel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Elkötelezettsé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Közvetítés a munkavállalók fel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Hozzáférhetősé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Fejleszt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295280" y="549000"/>
            <a:ext cx="78487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Alkalmas munkahelyi és egyészség-védelmi politika megfogalmazása, rögzítése, közvetítése a munkavállalók  felé és hozzáférés biztosítása a nyilvánosság számá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A politika legyen összhangban a szervezet és az érdekelt felek igényei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Tartalmazza a szervezet egészére kiterjedő elkötelezettséget az egészség védelmére, a biztonságra, a jogszabályok betartásá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3. TERVEZ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341000"/>
            <a:ext cx="8740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3.1. Veszélyazonosítás, kockázat-értékelés és a kockázat kézben tartásának tervezése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Eljárás készítés a veszélyek folyamatos felismerésére, a kockázatok értékelésé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és a szükséges kézbentartási intézkedések bevezetésé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" y="11970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3. TERVEZ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341000"/>
            <a:ext cx="8740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3.2. Jogi és egyéb követelménye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Elemzés 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Követ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Eljárás a környezeti tényezőkre vonatkozó jogszabályok megismerésére, folyamatos figyelésére, a munkavállalók és az érdekelt felek tájékoztatásár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5640" y="11970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3. TERVEZ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00000" y="1412640"/>
            <a:ext cx="8460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3.3. Cél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Meghatározása</a:t>
            </a: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 Méré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Célok rögzítése a jogszabályi követelmé-nyek,  a veszélyek és a kockázatok, </a:t>
            </a:r>
            <a:br>
              <a:rPr sz="3600"/>
            </a:b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érdekelt felek elvárásainak figyelembe vételével, összhangban a MEB politikáv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11970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3. TERVEZ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000" y="1218960"/>
            <a:ext cx="8459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3.4. MEB irányítási program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Felelősségek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Eszközök, határid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A programok készítése és rögzítése a célok és előirányzatok elérésé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11970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4. BEVEZETÉS ÉS MŰKÖ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459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4.1. Szervezeti felépítés és felelőssé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Meghatározása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Ismerteté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Szabályozni kell az érintett személyek feladatait, felelősségét, az egymás közötti függőségeket, kapcsolatokat és ezt az érintettek tudomására kell hozni.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5640" y="148428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11:17:29Z</dcterms:created>
  <dc:creator>Gizus</dc:creator>
  <dc:description/>
  <dc:language>en-US</dc:language>
  <cp:lastModifiedBy>Gizella</cp:lastModifiedBy>
  <dcterms:modified xsi:type="dcterms:W3CDTF">2010-08-23T07:40:29Z</dcterms:modified>
  <cp:revision>90</cp:revision>
  <dc:subject/>
  <dc:title>A KÖZPONTI TEAM FELADATAI</dc:title>
</cp:coreProperties>
</file>